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467B-6EA4-4D10-9648-C752C2AFD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4C09-C59A-4EFD-89BA-85AD0675A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3D32-E95B-46CF-A895-8A9742B8C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8B5C-4089-4150-8DAF-AC018B4E4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25EE7-6558-4C6F-B09C-2DC9382B9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AF75A-72CB-4DF1-A644-254CF0FA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D4F51-67B4-4BB0-B5DD-331B46C10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74E62-0599-487F-81A1-F63374AD4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32FFB-2CAC-4888-89DC-48EDD9DD4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BAC40-8C89-4C65-B772-709C89858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304FC-E3EF-4270-9B91-653A1281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66D0-3C20-4AF3-89D6-4DAE152FC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67FF1-0DF3-4A70-A81C-143A235E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D9E20-C6E8-486F-81D4-BC3CCDCB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6FFC5-729F-48F5-805B-84195CFFB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B4A6F-DF45-4E41-847A-5062AF3E8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4BD25-13D5-4570-90C2-66D9D506D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54A4-B5A2-4BD2-996A-C70C225ED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B04B-C693-4C8C-AF01-4D444256F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4551-3EB8-48E1-AE83-F3F0DED72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4930-5303-437A-942C-D576B5346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9340-EC65-4085-B5D3-C9B1C369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87AF-1E36-4697-A4F7-BB921822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71E2-8265-459E-B08B-0FCFED99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7090E-E00F-4972-AE6A-45252695D87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2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AutoShape 20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Group 18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AutoShape 12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AutoShape 13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5E118-E911-41A9-8D5E-31F1A564F64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990720" y="3200400"/>
            <a:ext cx="7391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El Presente Progresivo</a:t>
            </a:r>
            <a:endParaRPr b="0" lang="en-US" sz="9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estás corriendo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09120" y="2927520"/>
            <a:ext cx="772164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66"/>
                </a:solidFill>
                <a:latin typeface="Arial"/>
              </a:rPr>
              <a:t>Tú (correr) ahora.</a:t>
            </a:r>
            <a:endParaRPr b="0" lang="en-US" sz="6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1425240"/>
            <a:ext cx="809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Estamos hablando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914400" y="2927520"/>
            <a:ext cx="741672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66"/>
                </a:solidFill>
                <a:latin typeface="Arial"/>
              </a:rPr>
              <a:t>Nosotros (hablar).</a:t>
            </a:r>
            <a:endParaRPr b="0" lang="en-US" sz="6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33160" y="2927520"/>
            <a:ext cx="772164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66"/>
                </a:solidFill>
                <a:latin typeface="Arial"/>
              </a:rPr>
              <a:t>Nosotros(secarse)con las toallas.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"/>
              </a:rPr>
              <a:t>Estamos secándonos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03366"/>
                </a:solidFill>
                <a:latin typeface="Arial"/>
              </a:rPr>
              <a:t>estás despertándote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2927520"/>
            <a:ext cx="787392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66"/>
                </a:solidFill>
                <a:latin typeface="Arial"/>
              </a:rPr>
              <a:t>Tú (despertarse) ahora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Está viviendo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990720" y="2927520"/>
            <a:ext cx="73404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66"/>
                </a:solidFill>
                <a:latin typeface="Arial"/>
                <a:ea typeface="Arial"/>
              </a:rPr>
              <a:t>Paco (vivir) aquí.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Estoy durmiendo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Yo (dormir</a:t>
            </a:r>
            <a:r>
              <a:rPr b="0" lang="en-US" sz="4400" spc="-1" strike="noStrike">
                <a:solidFill>
                  <a:srgbClr val="006666"/>
                </a:solidFill>
                <a:latin typeface="Arial"/>
                <a:ea typeface="Arial"/>
              </a:rPr>
              <a:t>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Estoy yendo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2927520"/>
            <a:ext cx="695952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Yo (ir) al gimnasio ahora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Estáis pidiendo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142640" y="2927520"/>
            <a:ext cx="718812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V</a:t>
            </a:r>
            <a:r>
              <a:rPr b="0" lang="en-US" sz="4400" spc="-1" strike="noStrike">
                <a:solidFill>
                  <a:srgbClr val="006666"/>
                </a:solidFill>
                <a:latin typeface="Arial"/>
                <a:ea typeface="Arial"/>
              </a:rPr>
              <a:t>osotros (pedir) la comida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Está trayendo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09120" y="2927520"/>
            <a:ext cx="772164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66"/>
                </a:solidFill>
                <a:latin typeface="Arial"/>
              </a:rPr>
              <a:t>Ana (traer*) una pizza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Estamos sirviendo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42640" y="2927520"/>
            <a:ext cx="718812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  <a:ea typeface="Arial"/>
              </a:rPr>
              <a:t>Nosotros (servir) ahora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Estoy mirando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09120" y="2927520"/>
            <a:ext cx="772164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66"/>
                </a:solidFill>
                <a:latin typeface="Arial"/>
              </a:rPr>
              <a:t>Yo (mirar) la tele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3366"/>
                </a:solidFill>
                <a:latin typeface="Arial"/>
              </a:rPr>
              <a:t>Estás tocando</a:t>
            </a:r>
            <a:endParaRPr b="1" lang="en-US" sz="8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480" y="2895120"/>
            <a:ext cx="7645680" cy="182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66"/>
                </a:solidFill>
                <a:latin typeface="Arial"/>
              </a:rPr>
              <a:t>Tú(tocar) la guitarra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Está caminando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761760" y="2927520"/>
            <a:ext cx="78483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6666"/>
                </a:solidFill>
                <a:latin typeface="Arial"/>
              </a:rPr>
              <a:t>Mi perro(caminar)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Están llevando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61760" y="2927520"/>
            <a:ext cx="7569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66"/>
                </a:solidFill>
                <a:latin typeface="Arial"/>
              </a:rPr>
              <a:t>Ellos (llevar) los jeans.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Está llamando 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761760" y="2927520"/>
            <a:ext cx="7569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El (llamar) por teléfono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Estás escribiendo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609120" y="2927520"/>
            <a:ext cx="772164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66"/>
                </a:solidFill>
                <a:latin typeface="Arial"/>
              </a:rPr>
              <a:t>Tú (escribir)la tarea.</a:t>
            </a:r>
            <a:endParaRPr b="0" lang="en-US" sz="6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1425240"/>
            <a:ext cx="809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3366"/>
                </a:solidFill>
                <a:latin typeface="Arial"/>
              </a:rPr>
              <a:t>Estoy cepillándome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914400" y="2927520"/>
            <a:ext cx="741672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66"/>
                </a:solidFill>
                <a:latin typeface="Arial"/>
              </a:rPr>
              <a:t>Yo (cepillarse) los dientes</a:t>
            </a:r>
            <a:endParaRPr b="0" lang="en-US" sz="6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1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Estoy viendo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609120" y="2927520"/>
            <a:ext cx="772164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66"/>
                </a:solidFill>
                <a:latin typeface="Arial"/>
              </a:rPr>
              <a:t>Yo(ver) un video.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8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366"/>
                </a:solidFill>
                <a:latin typeface="Arial"/>
              </a:rPr>
              <a:t>Estás despertándote</a:t>
            </a:r>
            <a:endParaRPr b="1" lang="en-US" sz="6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2927520"/>
            <a:ext cx="787392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66"/>
                </a:solidFill>
                <a:latin typeface="Arial"/>
              </a:rPr>
              <a:t>Tú(despertarse) ahora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7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Están oyendo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609120" y="2927520"/>
            <a:ext cx="772164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66"/>
                </a:solidFill>
                <a:latin typeface="Arial"/>
              </a:rPr>
              <a:t>Ellos (oír) la música</a:t>
            </a:r>
            <a:endParaRPr b="0" lang="en-US" sz="6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2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  <a:ea typeface="Arial"/>
              </a:rPr>
              <a:t>Estás nadando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609120" y="2927520"/>
            <a:ext cx="772164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66"/>
                </a:solidFill>
                <a:latin typeface="Arial"/>
              </a:rPr>
              <a:t>Tú (nadar)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9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Están poniendo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2927520"/>
            <a:ext cx="695952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Ellos (poner) la mesa para la cena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Están cantando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2927520"/>
            <a:ext cx="787392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6666"/>
                </a:solidFill>
                <a:latin typeface="Arial"/>
              </a:rPr>
              <a:t>Ellos ( cantar) Feliz Cumpleaños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Estoy levantándome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yo (levantarse</a:t>
            </a:r>
            <a:r>
              <a:rPr b="0" lang="en-US" sz="4400" spc="-1" strike="noStrike">
                <a:solidFill>
                  <a:srgbClr val="006666"/>
                </a:solidFill>
                <a:latin typeface="Arial"/>
                <a:ea typeface="Arial"/>
              </a:rPr>
              <a:t>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  <a:ea typeface="Arial"/>
              </a:rPr>
              <a:t>ahora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Estás comiendo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142640" y="2927520"/>
            <a:ext cx="718812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  <a:ea typeface="Arial"/>
              </a:rPr>
              <a:t>Tú (comer) la sopa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3366"/>
                </a:solidFill>
                <a:latin typeface="Arial"/>
              </a:rPr>
              <a:t>Está maquillándose</a:t>
            </a:r>
            <a:endParaRPr b="1" lang="en-US" sz="8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85440" y="2927520"/>
            <a:ext cx="764532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66"/>
                </a:solidFill>
                <a:latin typeface="Arial"/>
              </a:rPr>
              <a:t>Mi amiga (maquillarse) para la escuela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Está leyendo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761760" y="2927520"/>
            <a:ext cx="78483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6666"/>
                </a:solidFill>
                <a:latin typeface="Arial"/>
              </a:rPr>
              <a:t>Juan(leer) un libro.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Estáis trabajando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761760" y="2927520"/>
            <a:ext cx="7569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66"/>
                </a:solidFill>
                <a:latin typeface="Arial"/>
              </a:rPr>
              <a:t>Vosotros (trabajar) en la tarea.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53352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está preparando 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761760" y="2927520"/>
            <a:ext cx="7569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Ella ( preparar)los tacos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3T01:10:45Z</dcterms:created>
  <dc:creator>Tom Shirley</dc:creator>
  <dc:description/>
  <dc:language>en-US</dc:language>
  <cp:lastModifiedBy>Meg</cp:lastModifiedBy>
  <cp:lastPrinted>2009-04-22T19:24:48Z</cp:lastPrinted>
  <dcterms:modified xsi:type="dcterms:W3CDTF">2014-02-01T15:46:27Z</dcterms:modified>
  <cp:revision>24</cp:revision>
  <dc:subject/>
  <dc:title>PowerPoint Presentation</dc:title>
</cp:coreProperties>
</file>